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67B-0936-4662-ABF2-787C0069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ED1-7830-4D36-A562-48512CE8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999-B4EA-4D60-A1D3-5F4EC573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5F4-5A04-4B2C-B5EE-D78A974B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7CF-1122-4AA9-A0E3-1E7B1E3C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969-A48C-48B2-B125-1CE9EA40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7A5-BD1D-4B18-9DB6-F78D4CFC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AD8-D0A9-4E6B-9493-6EE3470A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155-2F67-4E5B-8056-C2413617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73B-982E-4236-85FE-0E028A3F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6A4B-51C5-4DE0-BF9C-69F59B33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EEE-CB30-4906-98F1-9809D81C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9AA2-0601-4926-9F9B-CA5D55D6E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87812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000" spc="-1" strike="noStrike">
                <a:solidFill>
                  <a:srgbClr val="000000"/>
                </a:solidFill>
                <a:latin typeface="Calibri Light"/>
              </a:rPr>
              <a:t>Кинезитерапија цервикалног синдрома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52020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ф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.др Катарина Парезановић Ил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415120" y="182520"/>
            <a:ext cx="1361880" cy="16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8080" y="622080"/>
            <a:ext cx="10515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sr-CS" sz="3700" spc="-1" strike="noStrike">
                <a:solidFill>
                  <a:srgbClr val="000000"/>
                </a:solidFill>
                <a:latin typeface="Calibri"/>
              </a:rPr>
              <a:t>Трајање бол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ff0000"/>
                </a:solidFill>
                <a:latin typeface="Calibri"/>
              </a:rPr>
              <a:t>акутни</a:t>
            </a:r>
            <a:r>
              <a:rPr b="0" lang="sr-CS" sz="3700" spc="-1" strike="noStrike">
                <a:solidFill>
                  <a:srgbClr val="000000"/>
                </a:solidFill>
                <a:latin typeface="Calibri"/>
              </a:rPr>
              <a:t> до 4 недељ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ff0000"/>
                </a:solidFill>
                <a:latin typeface="Calibri"/>
              </a:rPr>
              <a:t>субакутни</a:t>
            </a:r>
            <a:r>
              <a:rPr b="0" lang="sr-CS" sz="3700" spc="-1" strike="noStrike">
                <a:solidFill>
                  <a:srgbClr val="000000"/>
                </a:solidFill>
                <a:latin typeface="Calibri"/>
              </a:rPr>
              <a:t> 4-12 недељ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ff0000"/>
                </a:solidFill>
                <a:latin typeface="Calibri"/>
              </a:rPr>
              <a:t>хронични </a:t>
            </a:r>
            <a:r>
              <a:rPr b="0" lang="sr-CS" sz="3700" spc="-1" strike="noStrike">
                <a:solidFill>
                  <a:srgbClr val="000000"/>
                </a:solidFill>
                <a:latin typeface="Calibri"/>
              </a:rPr>
              <a:t>преко 12 недеља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700" spc="-1" strike="noStrike">
                <a:solidFill>
                  <a:srgbClr val="000000"/>
                </a:solidFill>
                <a:latin typeface="Calibri"/>
              </a:rPr>
              <a:t>Акутни бол: указује на оштећење-дијагностички значај. Кратко траје,лако се у 50% леч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700" spc="-1" strike="noStrike">
                <a:solidFill>
                  <a:srgbClr val="000000"/>
                </a:solidFill>
                <a:latin typeface="Calibri"/>
              </a:rPr>
              <a:t>Хронични бол: не указује на оштећење, проузрокује промену активности и квалитета живота. Дуго траје, тешко се лечи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Анамнеза и прегле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лпаторни на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кретљив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стови вертебралне артер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нзиони тест брахијалног плекс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мпресивни тестови-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pour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урални зна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отомска и дерматомска дистрибу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ефлек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тало: преглед рамена, пазушне јаме, торак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треба за додатним испитивањем-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ed fl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Миотом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5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deltoideus,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biceps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тивање абдукције рамена, и флексија лакта са супинираном подлактицом, кључни мишићи по стандардној неуролошкој класификацији,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лексори подлактице,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. biceps, m.brachioradial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6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 biceps, brachialis, brachioradialis i ekstenzor carpi radialis longus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тивање флексија у супинацији, пронацији и мед. Позицији, затим екстензија шаке са радијалном девијацијом, кључни мишићи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кстензори ручј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. ext. carpi radialis longus et brev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878040" y="1825560"/>
            <a:ext cx="4413240" cy="4351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5486400" y="1946160"/>
            <a:ext cx="40226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Миотом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7: triceps,fleksor carpi radialis, fleksor digitorum radialis i extenzori šake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тивање кроз екстензију лакта и флексију шаке, кључни мишићи екстензори подлактице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m.triceps brach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8: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бдуктори палца кратки и дуги, екстензор палца кратки и дуги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fleksor carpi ulnaris i fleksori prstiju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тивање кроз екстензију и абдукцију палца, флексија прстију и улнарна девијација шаке, кључни мишић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лексија дисталне фаланге средњег пр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1: испитивање кроз абдукцију и адукцију прстију, кључни мишић,  абдукција малог прста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m.abd.dig.mini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036880" y="1146240"/>
            <a:ext cx="7485120" cy="50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475000" y="1060560"/>
            <a:ext cx="6361200" cy="51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779560" y="1023840"/>
            <a:ext cx="5432400" cy="51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416320" y="755640"/>
            <a:ext cx="7359480" cy="54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"/>
          <p:cNvPicPr/>
          <p:nvPr/>
        </p:nvPicPr>
        <p:blipFill>
          <a:blip r:embed="rId1"/>
          <a:stretch/>
        </p:blipFill>
        <p:spPr>
          <a:xfrm>
            <a:off x="838080" y="561960"/>
            <a:ext cx="105156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Дефиниц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ервикални синдром је скуп симптома који се испољавају болом у вратној регији и радијацијом бола у рамена и руке, прекордијалну регију, потиљ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о подру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 (потиљ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 главобоља), лопатиц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Лезија </a:t>
            </a:r>
            <a:r>
              <a:rPr b="0" lang="sr-Latn-CS" sz="4400" spc="-1" strike="noStrike">
                <a:solidFill>
                  <a:srgbClr val="000000"/>
                </a:solidFill>
                <a:latin typeface="Calibri Light"/>
              </a:rPr>
              <a:t>n.ulnarisa </a:t>
            </a: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и </a:t>
            </a:r>
            <a:r>
              <a:rPr b="0" lang="sr-Latn-CS" sz="4400" spc="-1" strike="noStrike">
                <a:solidFill>
                  <a:srgbClr val="000000"/>
                </a:solidFill>
                <a:latin typeface="Calibri Light"/>
              </a:rPr>
              <a:t>n.medianu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Content Placeholder 3" descr=""/>
          <p:cNvPicPr/>
          <p:nvPr/>
        </p:nvPicPr>
        <p:blipFill>
          <a:blip r:embed="rId1"/>
          <a:stretch/>
        </p:blipFill>
        <p:spPr>
          <a:xfrm>
            <a:off x="901800" y="1670040"/>
            <a:ext cx="4120920" cy="470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5437080" y="1731960"/>
            <a:ext cx="457200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Дерматом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5: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атерална страна надла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6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латерална страна подлакта, палца и кажипр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7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средњи пр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8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медијална страна подлакта, 4 и 5 ти пр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h1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медијална страна надла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h2: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акс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Клинички облиц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ирадирајући- локал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радирајућ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ервикални дискогени синдром са радикулопати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ервикални фасет синдром са иритацијом радик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ебн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Wiplash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дром вр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y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ртебробазиларне инсуфициј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дром спиналне стено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ондилолисте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дуларни вратни синдр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ред тегоба које пот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од компримованих нервних стабала код овог синдрома се веом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сто с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и симптоматологија лезије симпатикуса. Симпа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и део је у овој регији састављен из сле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х структу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Ganglion cervikale superi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Ganglion cervikale mediu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Ganglion stellat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англион цервикале медиум + први торакални ганглион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е ганглион стеллатум. Из овог ганглиона иду влакна која обавијају вертебралну артерију и многи аутори га називају - задњи вратни симпатикус или вертебрални плексус. Иритација овог вазомоторног дела симпатицког система даје слику Барре - Лие-овог синдрома (синдром задњег симпатикуса). Симптоми су: вертиго, парестезија лица, фарингеалне сметње, наузеа, главобоља, тинитус, црвенило лица и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Дијагности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линички неуролошки прегл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EM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opller dijagnost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T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T dijagnostik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 Light"/>
              </a:rPr>
              <a:t>Терапија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Calibri Light"/>
              </a:rPr>
              <a:t>Цервикални дискогени синдром без радикулопатиј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едикаментозна терапија: антиинфламаторна, спазмолитична 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налгетска терап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зиционирање, меки оковратни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дукација пацијен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ТХ поступак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стурална реедука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тивне сегментне и пасивне вежбе у безболном обим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ез покрета флексије и протракције раме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зиметријске за вр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ежбе стабилизације трупа и вежбе обима покрета и снаге за Г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Цервикални фасет синдром без иритације корен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 око кичменог стуба често обостра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рапиј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асер, импулсни  У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ТХ и радна терап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турална реедук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тивне сегментне и пасивне ве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ометријске за в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нуелна тракција из безболног полож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жбе стабилизације тру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жбе обима покрета и снаге за 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ајно избегавање екстензије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Локални цервикални синдром типа цервикалне спондилозе </a:t>
            </a:r>
            <a:r>
              <a:rPr b="0" lang="sr-Latn-CS" sz="4400" spc="-1" strike="noStrike">
                <a:solidFill>
                  <a:srgbClr val="000000"/>
                </a:solidFill>
                <a:latin typeface="Calibri Light"/>
              </a:rPr>
              <a:t>( cephalea cerv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ови у потиљку и раменом појасу. Увек присутна главобољ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ТХ поступак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урална реедук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тивне сегментне вежб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утоистез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ометријске вежб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жбе стабилизације труп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жбе обима и снаге за 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ренапрезање трапезиус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агна 4 дана 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oll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за ра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  3 до 4 дана пацијенти могу да раде све активне вежб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утоистезање, при крају амплитуде притисак у правцу покрета 10 и 15 с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помогнуто истезање и флексија, бочна флексија и екстен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урална реедук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Дефиниц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 физиол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г аспекта овај синдром представља скуп симптома везаних за иритацију или компресију нервних коренова у интервертебралним отворима или компресије васкуларних елемената симпатикуса. У 90% појаве овог синдрома у основи су дегенеративне промене вратне рег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Цервикални постурални синдром</a:t>
            </a:r>
            <a:br>
              <a:rPr sz="4400"/>
            </a:b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ренапрегнутост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ворићи око медијалне ивице скапу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трузија глав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екција пос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ме ретракција и елевација, ретракција врата, екстензија торакалне региј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5-20 понављања током д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 Light"/>
              </a:rPr>
              <a:t>Терапија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Calibri Light"/>
              </a:rPr>
              <a:t>Цервикална дископатија са радикулопатијом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ол у пределу радикса са компресијом или иритацијом једног или више нерава, једне или обе стране без знакова мијелопатиј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рапија: 6 недеља до три месец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едикаментозна терапија: декомпресивна и антиинфламаторна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миорелаксан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Физикалне процедуре: аналгетске и антиинфламаторне одмах: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DDS,TENS,Laser,IFS, superficijalna toplo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ТХ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зиционирање у безболном положа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редња висина јастука, током ноћи са убаченим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roll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дукација пацијента, заштитним положај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1040" y="3160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 Light"/>
              </a:rPr>
              <a:t>Терапија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Calibri Light"/>
              </a:rPr>
              <a:t>Цервикална дископатија са радикулопатијом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лежећем положају започети активне вежбе у безболном обиму, редослед: ротације и бочне флексије ка здравој страни, потом ка болесној, потом екстензија и флексиј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ада се смање болови у руци индикована је тракција, мануелна тракција у лежећем положају са благом флексијом у врату, потом апаратурна 2-3 пута дневно по 10-15 минута. Ако се појача бол, прекида с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огрсија вежби у седећем положају, све време уз корекцију постуре (елевација и ретракција рамен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ада се постигне нормалан обим, вежбе истезања и изометријске за врат, вежбе са отпором за рамени појас и екстремитете уз корекцију постур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Едукац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авети при активност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почетку избегавати рад са флексијом главе дуже од неколико мину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рте носити распоређен у обе рук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су прати стојећи испод туша са обе рук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слон фотеља и столица под углом од 90 ст, при одмору са благом ретракцијом раме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исина екрана у висини оч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збегавати дуже од 2-3 минута рад са рукама изнад хоризонтале до годину дана, након симптома праћених радикулопатским манифестацијам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Анатом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ла испод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2 су напред 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, а назад 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. На горњој страни су б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и наставци -процессус унцинатус. Унковертебрални зглоб-Лушка настаје узглобљавањем овог наставка са телом пршљена. Два суседна пршљена су м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бно везана са пет зглобова: два задња апофизарна, два б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 унковертебрална и дискусном творевином. Б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и делови процесус унцинатус су меха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 заштита за нервне коренове од пролапса diskus intervertebral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Анатом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ртерија вертебралис, која пролази кроз отворе на процесусима трансверсусима, у присном је контакту са костима и обавијена је густим омотацем симпатикусних влакана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о при иритацији условљава њену инсуфицијенцију и појаву вертебробасиларне инсуфицијенције (Barre-Lie-ov sindro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атолог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кутна 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ња дискалне структуре настају само у сл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ју 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трауматизације, где се посебно ис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трзајна повреда врата (саоб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јни удеси) и директно вертикално савијање (скок са платформе на главу у плитку воду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атолог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рон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 промене не захватају само дискус интервертебралис 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остале структуре, апофизарне зглобове као и интервертебралне зглобове, мека ткива, лигаментарно миш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 структуре. Свака промена која смањује промер интервертебралног отвора компромитује функцију 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ог корена и манифестује се радикуларном симптоматологијом. Нај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ш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 промене су појава остеофита н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5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6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7. Предњи остеофити могу притиснути на есо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гус, па се могу јавити дисфаг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 сметњ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Патологиј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икросублуксације - кулминација - радикуларна симптоматологија - цервикобрахиалгија.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e Palm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води да није 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а изолована дегенерација једног дискуса 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др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е промене н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-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Аутопсијом је н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о да се ове промене развијају углавном у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кад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в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 Light"/>
              </a:rPr>
              <a:t>Класификација бола у врату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792000" y="1822320"/>
            <a:ext cx="10564920" cy="435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8T22:00:10Z</dcterms:created>
  <dc:creator>katarinaparezanovicilic@gmail.com</dc:creator>
  <dc:description/>
  <dc:language>en-US</dc:language>
  <cp:lastModifiedBy>Kaca</cp:lastModifiedBy>
  <dcterms:modified xsi:type="dcterms:W3CDTF">2024-08-29T15:44:17Z</dcterms:modified>
  <cp:revision>56</cp:revision>
  <dc:subject/>
  <dc:title>ВРСТЕ ВЕЖБИ</dc:title>
</cp:coreProperties>
</file>